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613-700E-4FD4-8972-C3342CEF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336-2ECE-4BF8-BF00-7AFE3A01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9A0-B7C9-4E90-B06A-35CF1320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B1F-EA93-45C1-8409-7016D023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E91-1FC3-4F57-AFE6-2CA0305A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664-17E6-4E52-8FC7-45C47FEE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4C3-6662-4C8A-9F80-7606786F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A8E-BD2F-434A-9B00-C7B26D05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E59-6D9D-4E93-95AB-14ACE79E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C56-B470-40B4-952E-4FF6A985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171-1B4C-48C5-BD41-6B03D0EB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22D-77E4-4436-A3A6-735949C0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DF7-22DF-4F8B-9C8B-81286A149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Combinations are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Questions for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many combinations are possible if you are given 20 prefixes and 20 root w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number of combination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is the formula for solving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xplain how figuring out the number of English words possible is different from figuring out the number of combination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S TO DISCUSSIO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stimation figures may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20 x 20= 400 possible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re are 400 possible combinations, but not all of those combinations are English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8:08:27Z</dcterms:created>
  <dc:creator>ASD</dc:creator>
  <dc:description/>
  <dc:language>en-US</dc:language>
  <cp:lastModifiedBy>ASD</cp:lastModifiedBy>
  <dcterms:modified xsi:type="dcterms:W3CDTF">2011-05-31T19:29:23Z</dcterms:modified>
  <cp:revision>3</cp:revision>
  <dc:subject/>
  <dc:title>Word Puzzles</dc:title>
</cp:coreProperties>
</file>